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88EA5-B67B-4F56-848C-8D8F41567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09BD2-8AAF-44BC-96FD-E686CE026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8A055-4C04-48E3-A24B-7C1C279616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D3972-37E3-4DED-A761-9C443B231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E4F8E6-1C52-405E-8FFB-67BFD18DF6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D0019-5BE9-403B-95ED-92C1D4F11C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7AAC2-F178-463A-87CC-3BEC0C5B3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7B0E3-F3BE-4071-979B-A4241EF56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3D32E-7095-470B-A8E7-15C98A3949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FCE6F-A2FF-4FEE-9185-90A764DEC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519AB-809D-4E08-AA95-221D0C549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2CAF4-A42B-44BC-9706-22E4947D3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A32B0-AB6B-4947-A409-57EC7B2F7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CFCE8-AB17-45DC-BEFF-4DC3C3A75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D746F-3925-484C-8F8F-E3D4F8A550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3DA343-2622-4075-9CE8-63B5B0967A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911B0F-0802-458E-9DC3-578262B477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2AA6F-62E9-42DD-94B9-DEA984A48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DB8C5-AC1B-4921-9910-1096DC07D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0D1EC-28DD-4774-A8B0-5F7CC82DD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31036-751C-4304-AA47-AAA015159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80636-C6A8-4F6D-A358-09C223700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6CDA7-6990-42F0-B353-3AC3A26DC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D9A17-26C6-4EB0-9508-31A347B5FD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9A6B9-FB71-4178-A65F-34771F15EB29}"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96765-1A0E-4C60-B5D1-99F46EEDD736}"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rimination in Employment</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1447920" y="3809520"/>
            <a:ext cx="6400800" cy="175284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pter 9</a:t>
            </a:r>
            <a:endParaRPr b="0" lang="en-US" sz="32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2</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sh, Angelique, Gary, Jessica, &amp; Roni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tues prohibiting discrimination</a:t>
            </a:r>
            <a:endParaRPr b="0" lang="en-US" sz="4400" spc="-1" strike="noStrike">
              <a:solidFill>
                <a:srgbClr val="000000"/>
              </a:solidFill>
              <a:latin typeface="Times New Roman"/>
            </a:endParaRPr>
          </a:p>
        </p:txBody>
      </p:sp>
      <p:sp>
        <p:nvSpPr>
          <p:cNvPr id="85" name="PlaceHolder 2"/>
          <p:cNvSpPr>
            <a:spLocks noGrp="1"/>
          </p:cNvSpPr>
          <p:nvPr>
            <p:ph/>
          </p:nvPr>
        </p:nvSpPr>
        <p:spPr>
          <a:xfrm>
            <a:off x="762120" y="1523520"/>
            <a:ext cx="7619760" cy="495324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itle VII of the Civil Rights Act of 1964</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hibits employment discrimination </a:t>
            </a:r>
            <a:r>
              <a:rPr b="0" i="1" lang="en-US" sz="2400" spc="-1" strike="noStrike">
                <a:solidFill>
                  <a:srgbClr val="000000"/>
                </a:solidFill>
                <a:latin typeface="Times New Roman"/>
              </a:rPr>
              <a:t>based on race, color, religion, sex, or national origi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itle IX of the Education Amendments Act of 1972</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hibits sexual discrimination by public and private educational institutions receiving federal fund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qual Protection Clause of 14th Amendmen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protection against group discrimination and unfair treat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tues prohibiting discrimination</a:t>
            </a:r>
            <a:endParaRPr b="0" lang="en-US" sz="4400" spc="-1" strike="noStrike">
              <a:solidFill>
                <a:srgbClr val="000000"/>
              </a:solidFill>
              <a:latin typeface="Times New Roman"/>
            </a:endParaRPr>
          </a:p>
        </p:txBody>
      </p:sp>
      <p:sp>
        <p:nvSpPr>
          <p:cNvPr id="87" name="PlaceHolder 2"/>
          <p:cNvSpPr>
            <a:spLocks noGrp="1"/>
          </p:cNvSpPr>
          <p:nvPr>
            <p:ph/>
          </p:nvPr>
        </p:nvSpPr>
        <p:spPr>
          <a:xfrm>
            <a:off x="304560" y="1981080"/>
            <a:ext cx="84582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ehabilitation Act of 1973</a:t>
            </a:r>
            <a:endParaRPr b="0" lang="en-US" sz="28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hibits discrimination against any otherwise qualified person who has a </a:t>
            </a:r>
            <a:r>
              <a:rPr b="0" i="1" lang="en-US" sz="2400" spc="-1" strike="noStrike">
                <a:solidFill>
                  <a:srgbClr val="000000"/>
                </a:solidFill>
                <a:latin typeface="Times New Roman"/>
              </a:rPr>
              <a:t>disability</a:t>
            </a:r>
            <a:r>
              <a:rPr b="0" lang="en-US" sz="2400" spc="-1" strike="noStrike">
                <a:solidFill>
                  <a:srgbClr val="000000"/>
                </a:solidFill>
                <a:latin typeface="Times New Roman"/>
              </a:rPr>
              <a:t> with respect to employment, training, compensation, promotion, fringe benefits, and terms and conditions of employment.</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mericans with Disabilities Act of 1990</a:t>
            </a:r>
            <a:endParaRPr b="0" lang="en-US" sz="28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cts individuals with disabilities against discrimination and assures equal access to opportun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tues prohibiting discrimination</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ffirmative Action - Proposition 209</a:t>
            </a:r>
            <a:endParaRPr b="0" lang="en-US" sz="32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eans to eliminate affirmative action programs supported by governmental agencies.</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hibits discrimination and preferential treatment on the basis of race, sex, ethnicity, color, or national origin.</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tues prohibiting discrimination</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ge Discrimination Act in Employment Act of 1967</a:t>
            </a:r>
            <a:endParaRPr b="0" lang="en-US" sz="32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hibit forced retirement of employee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regnancy Discrimination Act of 1978</a:t>
            </a:r>
            <a:endParaRPr b="0" lang="en-US" sz="32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endment to Title VII which protects pregnant employees against any form of discrimination based on pregnanc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areas protected…</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1000"/>
          </a:bodyPr>
          <a:p>
            <a:pPr marL="312120" indent="-3121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Sexual Harassment</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hibited by Title VII and Title IX</a:t>
            </a:r>
            <a:endParaRPr b="0" lang="en-US" sz="2400" spc="-1" strike="noStrike">
              <a:solidFill>
                <a:srgbClr val="000000"/>
              </a:solidFill>
              <a:latin typeface="Times New Roman"/>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Issues involving National Origin: Proposition 187</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cted in 1994 denies public social services to people who are unable to establish there status as U.S. citizens, lawful permanent residents, or aliens lawfully admitted for certain period of time.</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consider this to violate the equal protection clause of the 14th amendment.</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one of the most controversial issues and still being deb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1T04:04:00Z</dcterms:created>
  <dc:creator>Roni  Dorsey</dc:creator>
  <dc:description/>
  <dc:language>en-US</dc:language>
  <cp:lastModifiedBy>Roni  Dorsey</cp:lastModifiedBy>
  <dcterms:modified xsi:type="dcterms:W3CDTF">2009-07-21T04:52:05Z</dcterms:modified>
  <cp:revision>1</cp:revision>
  <dc:subject/>
  <dc:title>Discrimination in Employment</dc:title>
</cp:coreProperties>
</file>